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A3EE8-DC0F-4D4C-B065-FB0879808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F18C7-722E-43C9-A5C2-5262CFA07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EC4BDE-EC4A-4511-A6B9-2380A1696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9AB51-FFC7-40E9-8130-4B465FB71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46C9B7-F28F-4DEA-9A58-C996454047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9E0392-1F82-4683-9395-B036DF4965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2C0A19-E523-46E2-85B3-DFCD875E67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9F91C-0928-41E3-B914-55A890580D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945463-9702-4860-B7F1-D85F44A4D5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1288F2-36C6-4740-8A4B-7C1DDB8EFF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6D2418-A980-4486-BB8A-1D13F193E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55992-3FCF-4CDD-BC22-A768C4881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B3E12-5FD7-4AAF-B426-5F8D9646D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F90CA-F1A3-46C7-B044-00895B146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2D896-F0BD-4776-A180-22BAEB6499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DC5DB5-621F-496C-ADB5-24C86810BD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41960A-EC9A-476D-B972-BBC7CAB969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312F3-5349-4876-A065-E80652BC2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B7342-BEE2-4B6D-AA8B-C45EE1EB9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1FA90-9816-4CB4-B18F-C70A14F58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9D450-D883-4726-8CCF-8E5AAD96B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36917-986E-40B2-AA64-8AE365A7A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24811-3C1C-44A6-8EB6-C2231B956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88798-4B3F-431A-8CE1-D50DEE2068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3C66D-E745-40F0-B6CA-A32EBED1CF6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DCE3B-8005-49A3-AB42-BF7DB75AD61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ollege Essay Skills</a:t>
            </a:r>
            <a:endParaRPr b="1" lang="en-US" sz="4400" spc="-1" strike="noStrike">
              <a:solidFill>
                <a:srgbClr val="ffffb7"/>
              </a:solidFill>
              <a:latin typeface="Arial Black"/>
            </a:endParaRPr>
          </a:p>
        </p:txBody>
      </p:sp>
      <p:sp>
        <p:nvSpPr>
          <p:cNvPr id="9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to do and what not to do</a:t>
            </a:r>
            <a:endParaRPr b="0" lang="en-US" sz="36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period</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dwell</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up six</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en, Brooke, Hunter, and Joann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ood Content</a:t>
            </a:r>
            <a:endParaRPr b="1" lang="en-US" sz="4400" spc="-1" strike="noStrike">
              <a:solidFill>
                <a:srgbClr val="ffffb7"/>
              </a:solidFill>
              <a:latin typeface="Arial Black"/>
            </a:endParaRPr>
          </a:p>
        </p:txBody>
      </p:sp>
      <p:sp>
        <p:nvSpPr>
          <p:cNvPr id="100" name="PlaceHolder 2"/>
          <p:cNvSpPr>
            <a:spLocks noGrp="1"/>
          </p:cNvSpPr>
          <p:nvPr>
            <p:ph/>
          </p:nvPr>
        </p:nvSpPr>
        <p:spPr>
          <a:xfrm>
            <a:off x="609120" y="3733560"/>
            <a:ext cx="6975720" cy="1981080"/>
          </a:xfrm>
          <a:prstGeom prst="rect">
            <a:avLst/>
          </a:prstGeom>
          <a:noFill/>
          <a:ln w="0">
            <a:noFill/>
          </a:ln>
        </p:spPr>
        <p:txBody>
          <a:bodyPr lIns="90000" rIns="90000" tIns="46800" bIns="46800" anchor="t">
            <a:normAutofit fontScale="88000"/>
          </a:bodyPr>
          <a:p>
            <a:pPr lvl="1" marL="653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rton heard a who and knew not who was there.  If you ask me who I am, I will tell you, if you dare.  Quite intriguing and precise, I may be testy but I am nice.  Consistency is key to on with OCD like me.  I have good morals.  I have good taste, yet I am slightly short of grace.  So, if who I am is what you ask, I would say intellectually eager, filled with thought and logic, but above all things I am an incomplete task.</a:t>
            </a:r>
            <a:endParaRPr b="0" lang="en-US" sz="2000" spc="-1" strike="noStrike">
              <a:solidFill>
                <a:srgbClr val="ffffff"/>
              </a:solidFill>
              <a:latin typeface="Arial"/>
            </a:endParaRPr>
          </a:p>
          <a:p>
            <a:pPr lvl="1" marL="653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 name=""/>
          <p:cNvSpPr/>
          <p:nvPr/>
        </p:nvSpPr>
        <p:spPr>
          <a:xfrm>
            <a:off x="1295280" y="1828800"/>
            <a:ext cx="7543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Achieve a 4: The content must be derived from personal knowledge or experience. It should not be the re-writing of someone else’s ideas. Appropriate details and development are also necessar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tructure</a:t>
            </a:r>
            <a:endParaRPr b="1" lang="en-US" sz="4400" spc="-1" strike="noStrike">
              <a:solidFill>
                <a:srgbClr val="ffffb7"/>
              </a:solidFill>
              <a:latin typeface="Arial Black"/>
            </a:endParaRPr>
          </a:p>
        </p:txBody>
      </p:sp>
      <p:sp>
        <p:nvSpPr>
          <p:cNvPr id="103" name="PlaceHolder 2"/>
          <p:cNvSpPr>
            <a:spLocks noGrp="1"/>
          </p:cNvSpPr>
          <p:nvPr>
            <p:ph/>
          </p:nvPr>
        </p:nvSpPr>
        <p:spPr>
          <a:xfrm>
            <a:off x="609120" y="3352680"/>
            <a:ext cx="8007480" cy="27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reativity and diversity were two of my favorite ways to learn.  Color, for instance, is said to have a memorable effect on the brain when aiming to memorize or study for educational purposes.  Rhyming, such as the pattern used in my introductory paragraph, is another thirst for knowledg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04" name=""/>
          <p:cNvSpPr/>
          <p:nvPr/>
        </p:nvSpPr>
        <p:spPr>
          <a:xfrm>
            <a:off x="914400" y="1295280"/>
            <a:ext cx="74674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Achieve a 4: It must be a clear, well-centered structure. The main idea is apparent and well detailed. Transitions with coherence and variety are used to keep the reader informed and not confused while still interes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ignificance</a:t>
            </a:r>
            <a:endParaRPr b="1" lang="en-US" sz="4400" spc="-1" strike="noStrike">
              <a:solidFill>
                <a:srgbClr val="ffffb7"/>
              </a:solidFill>
              <a:latin typeface="Arial Black"/>
            </a:endParaRPr>
          </a:p>
        </p:txBody>
      </p:sp>
      <p:sp>
        <p:nvSpPr>
          <p:cNvPr id="106" name="PlaceHolder 2"/>
          <p:cNvSpPr>
            <a:spLocks noGrp="1"/>
          </p:cNvSpPr>
          <p:nvPr>
            <p:ph/>
          </p:nvPr>
        </p:nvSpPr>
        <p:spPr>
          <a:xfrm>
            <a:off x="609120" y="4038480"/>
            <a:ext cx="8007480" cy="207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o, if who I am is what you ask, I would say intellectually eager, filled with thought and logic, but above all things I am an incomplete task.</a:t>
            </a:r>
            <a:endParaRPr b="0" lang="en-US" sz="2000" spc="-1" strike="noStrike">
              <a:solidFill>
                <a:srgbClr val="ffffff"/>
              </a:solidFill>
              <a:latin typeface="Arial"/>
            </a:endParaRPr>
          </a:p>
        </p:txBody>
      </p:sp>
      <p:sp>
        <p:nvSpPr>
          <p:cNvPr id="107" name=""/>
          <p:cNvSpPr/>
          <p:nvPr/>
        </p:nvSpPr>
        <p:spPr>
          <a:xfrm>
            <a:off x="914400" y="1371600"/>
            <a:ext cx="6858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Achieve a 4: The writer provides more than one approach as to why their topic is important. It contains depth and not breadth, while still holding the readers atten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rammar</a:t>
            </a:r>
            <a:endParaRPr b="1" lang="en-US" sz="4400" spc="-1" strike="noStrike">
              <a:solidFill>
                <a:srgbClr val="ffffb7"/>
              </a:solidFill>
              <a:latin typeface="Arial Black"/>
            </a:endParaRPr>
          </a:p>
        </p:txBody>
      </p:sp>
      <p:sp>
        <p:nvSpPr>
          <p:cNvPr id="109" name="PlaceHolder 2"/>
          <p:cNvSpPr>
            <a:spLocks noGrp="1"/>
          </p:cNvSpPr>
          <p:nvPr>
            <p:ph/>
          </p:nvPr>
        </p:nvSpPr>
        <p:spPr>
          <a:xfrm>
            <a:off x="837720" y="3809880"/>
            <a:ext cx="8007480" cy="2286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ad:  Now at age 17 I am a writer of many words an artist of many colors and a learner of many fact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od:  Now, at age 17, I am a writer of many words, an artist of many colors, and a learner of many facts.</a:t>
            </a:r>
            <a:endParaRPr b="0" lang="en-US" sz="2000" spc="-1" strike="noStrike">
              <a:solidFill>
                <a:srgbClr val="ffffff"/>
              </a:solidFill>
              <a:latin typeface="Arial"/>
            </a:endParaRPr>
          </a:p>
        </p:txBody>
      </p:sp>
      <p:sp>
        <p:nvSpPr>
          <p:cNvPr id="110" name=""/>
          <p:cNvSpPr/>
          <p:nvPr/>
        </p:nvSpPr>
        <p:spPr>
          <a:xfrm>
            <a:off x="838080" y="1371600"/>
            <a:ext cx="73152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Achieve a 4: There should be no careless of obvious errors that might throw the reader away from the main idea. Correct grammar always implies consideration for the reader and pride in an author’s work.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Bad Content</a:t>
            </a:r>
            <a:endParaRPr b="1" lang="en-US" sz="4400" spc="-1" strike="noStrike">
              <a:solidFill>
                <a:srgbClr val="ffffb7"/>
              </a:solidFill>
              <a:latin typeface="Arial Black"/>
            </a:endParaRPr>
          </a:p>
        </p:txBody>
      </p:sp>
      <p:sp>
        <p:nvSpPr>
          <p:cNvPr id="112" name="PlaceHolder 2"/>
          <p:cNvSpPr>
            <a:spLocks noGrp="1"/>
          </p:cNvSpPr>
          <p:nvPr>
            <p:ph/>
          </p:nvPr>
        </p:nvSpPr>
        <p:spPr>
          <a:xfrm>
            <a:off x="609120" y="4419360"/>
            <a:ext cx="8007480" cy="200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aseball players play on a diamond shaped field with one ball. Three strikes means that a baseball player is out of the game and can no longer play. Baseball players wear uniforms and hats. One of America’s favorite sports is baseball.</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13" name=""/>
          <p:cNvSpPr/>
          <p:nvPr/>
        </p:nvSpPr>
        <p:spPr>
          <a:xfrm>
            <a:off x="914400" y="1371600"/>
            <a:ext cx="73152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Fail at Achieving a 4 and succeed at regretfully making a 1: Absolutely no effort has been put forth to change the information presented into a personal experience or point of view. It seems as though all of the ideas belong to someone other than the expressed writer. Content is bland, general, and in no way detailed or creatively conveye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Bad Structure</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1904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o Fail at Achieving a 4 and succeed at regretfully making a 1: The main idea is not understandable or presented. Information is randomly placed for length and not relevance. As a whole the paper is out of place with an overabundance of simplicity. </a:t>
            </a:r>
            <a:endParaRPr b="0" lang="en-US" sz="2400" spc="-1" strike="noStrike">
              <a:solidFill>
                <a:srgbClr val="ffffff"/>
              </a:solidFill>
              <a:latin typeface="Arial"/>
            </a:endParaRPr>
          </a:p>
        </p:txBody>
      </p:sp>
      <p:sp>
        <p:nvSpPr>
          <p:cNvPr id="116" name=""/>
          <p:cNvSpPr/>
          <p:nvPr/>
        </p:nvSpPr>
        <p:spPr>
          <a:xfrm>
            <a:off x="1143000" y="4191120"/>
            <a:ext cx="7315200" cy="1923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tried to keep our dog in the bathtub but she just did not want us to give her a bath. Sophie spilled bubbles all over the bathroom rug. My favorite tee-shirt is ruined because I fell into the bathtub trying to give my dog a bath. We were tired. It took half an hour to give my dog a bath. For lunch we had cheeseburgers. They were good.</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Bad Significance</a:t>
            </a:r>
            <a:endParaRPr b="1" lang="en-US" sz="4400" spc="-1" strike="noStrike">
              <a:solidFill>
                <a:srgbClr val="ffffb7"/>
              </a:solidFill>
              <a:latin typeface="Arial Black"/>
            </a:endParaRPr>
          </a:p>
        </p:txBody>
      </p:sp>
      <p:sp>
        <p:nvSpPr>
          <p:cNvPr id="118" name="PlaceHolder 2"/>
          <p:cNvSpPr>
            <a:spLocks noGrp="1"/>
          </p:cNvSpPr>
          <p:nvPr>
            <p:ph/>
          </p:nvPr>
        </p:nvSpPr>
        <p:spPr>
          <a:xfrm>
            <a:off x="456840" y="1828440"/>
            <a:ext cx="8007480" cy="1981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o Fail at Achieving a 4 and succeed at regretfully making a 1: The writer may as well have told the reader to pick a different essay or topic. Inconsiderate and careless the writer does not open or close with an attention grabbing idea or hook. There is too much breadth and too little depth. </a:t>
            </a:r>
            <a:endParaRPr b="0" lang="en-US" sz="2400" spc="-1" strike="noStrike">
              <a:solidFill>
                <a:srgbClr val="ffffff"/>
              </a:solidFill>
              <a:latin typeface="Arial"/>
            </a:endParaRPr>
          </a:p>
        </p:txBody>
      </p:sp>
      <p:sp>
        <p:nvSpPr>
          <p:cNvPr id="119" name=""/>
          <p:cNvSpPr/>
          <p:nvPr/>
        </p:nvSpPr>
        <p:spPr>
          <a:xfrm>
            <a:off x="762120" y="4267080"/>
            <a:ext cx="754380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 have a bed time of eight o’clock. My digital clock sometimes blinks and makes my eyes feel funny. The next morning when I have to get up early I look at my digital clock and it does not feel funny to watch it blink. I was excited because we were going to the park that day. Melanie is my babysitter. She is tall. Her hair is brown with twists and turns. She smells like flowers. We will go to the park. My favorite type of flower is a daffodi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Bad Grammar</a:t>
            </a:r>
            <a:endParaRPr b="1" lang="en-US" sz="4400" spc="-1" strike="noStrike">
              <a:solidFill>
                <a:srgbClr val="ffffb7"/>
              </a:solidFill>
              <a:latin typeface="Arial Black"/>
            </a:endParaRPr>
          </a:p>
        </p:txBody>
      </p:sp>
      <p:sp>
        <p:nvSpPr>
          <p:cNvPr id="121" name="PlaceHolder 2"/>
          <p:cNvSpPr>
            <a:spLocks noGrp="1"/>
          </p:cNvSpPr>
          <p:nvPr>
            <p:ph/>
          </p:nvPr>
        </p:nvSpPr>
        <p:spPr>
          <a:xfrm>
            <a:off x="609120" y="1904760"/>
            <a:ext cx="8007480" cy="2057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o Fail at Achieving a 4 and succeed at regretfully making a 1: More than four grammatical errors exist and distract the reader from reading and understanding the essay. </a:t>
            </a:r>
            <a:endParaRPr b="0" lang="en-US" sz="2400" spc="-1" strike="noStrike">
              <a:solidFill>
                <a:srgbClr val="ffffff"/>
              </a:solidFill>
              <a:latin typeface="Arial"/>
            </a:endParaRPr>
          </a:p>
        </p:txBody>
      </p:sp>
      <p:sp>
        <p:nvSpPr>
          <p:cNvPr id="122" name=""/>
          <p:cNvSpPr/>
          <p:nvPr/>
        </p:nvSpPr>
        <p:spPr>
          <a:xfrm>
            <a:off x="914400" y="4114800"/>
            <a:ext cx="71629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 would of gave her a copy of the letter but she wouldn’t bee nice to me. It was alright though cause she was never nice to me witch was mean. After she begun to be sweet two me I gave her a hug and a hand. We eight ice cream and four the first time eye eight all of m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17:16:20Z</dcterms:created>
  <dc:creator>User</dc:creator>
  <dc:description/>
  <dc:language>en-US</dc:language>
  <cp:lastModifiedBy>User</cp:lastModifiedBy>
  <dcterms:modified xsi:type="dcterms:W3CDTF">2006-10-11T15:06:20Z</dcterms:modified>
  <cp:revision>13</cp:revision>
  <dc:subject/>
  <dc:title>Content</dc:title>
</cp:coreProperties>
</file>